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5B8-025D-454A-A37C-690418355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D7F5-3BD3-4C1F-B3AD-072F3D57B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5C15-9F42-4BE7-875D-F1A49761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DC9-F78F-41A2-9FF3-08671FBE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E6CE-86CA-4F40-A2AF-CBFD1703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5316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11200" y="190476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289512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85316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811200" y="4109400"/>
            <a:ext cx="186444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E66-AF31-46BE-8B98-1AF34686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476-11F0-4D07-8A65-5CB6C3E0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9FA-C25A-4CCE-B174-04CAA8AC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9520" y="304560"/>
            <a:ext cx="487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C1A4-DB4B-4CEC-88E8-94550606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0375-E622-4A4A-B3EF-4B276143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862960" y="410940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0D1-FB14-4407-8193-516F4A914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9512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62960" y="1904760"/>
            <a:ext cx="282600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95120" y="4109400"/>
            <a:ext cx="57913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562-7EF0-44CA-BA28-D56C23459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9520" y="30456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95120" y="1904760"/>
            <a:ext cx="579132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3845-2BBF-4AB1-BE44-EABFE7B3491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55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638520" cy="3581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86200" y="304560"/>
            <a:ext cx="49528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Why is the </a:t>
            </a: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moon</a:t>
            </a: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levant to </a:t>
            </a: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our daily lives?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28600" y="48769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aramond"/>
              </a:rPr>
              <a:t>How can we find out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305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did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et ther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far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way is it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change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the way we feel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sun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How i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differen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from the Earth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Did man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really go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Garamond"/>
              </a:rPr>
              <a:t>to the moon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Why did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astronauts go there?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Does it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stay in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one plac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How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long hav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people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studied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the moon 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Garamond"/>
              </a:rPr>
              <a:t>moon?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2401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changes.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ha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would it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Garamond"/>
              </a:rPr>
              <a:t>be like if the moon was gone forever?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To find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nswers to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hat we ar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ONDERING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about,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33"/>
                </a:solidFill>
                <a:latin typeface="Garamond"/>
              </a:rPr>
              <a:t>we will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33520" y="1522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Make personal observ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of the moon in the sk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Draw diagrams of 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moon moves acros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ky at night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Keep a journal describing the observa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cc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iscuss our entries with one anoth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Internet educational websites to help 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sign animated videos depicting th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moon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Ear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o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Earth’s revolu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round the su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Relative sizes will be shown to sca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Do research on the Internet to find out how the moon affect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33cc33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The Earth’s t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809ea8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nimal lif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Pla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uma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Use a Venn diagram to show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the similariti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difference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between the moon, the Earth, and the su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… </a:t>
            </a:r>
            <a:r>
              <a:rPr b="0" lang="en-US" sz="3200" spc="-1" strike="noStrike">
                <a:solidFill>
                  <a:srgbClr val="33cc33"/>
                </a:solidFill>
                <a:latin typeface="Garamond"/>
              </a:rPr>
              <a:t>Develop a PowerPoint presentation explain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historical findings of ear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809ea8"/>
                </a:solidFill>
                <a:latin typeface="Garamond"/>
              </a:rPr>
              <a:t>astronomer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and analyz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the differences in what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Aristotle, Ptolemy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99"/>
                </a:solidFill>
                <a:latin typeface="Garamond"/>
              </a:rPr>
              <a:t>Copernicus, and Galileo observed 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what influenced their conclu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522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an Internet survey/poll for opinions about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astronauts’ moonwalk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on past, present,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d future space explor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aluate and post the da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43828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22860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Garamond"/>
              </a:rPr>
              <a:t>A full moon is bright.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is not a plane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stronauts landed on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It goes around the Earth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What we Know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about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the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moo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22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Animals howl at it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8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Garamond"/>
              </a:rPr>
              <a:t>Why does it change?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5748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4652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66040" y="1295280"/>
            <a:ext cx="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228600"/>
            <a:ext cx="80769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99"/>
                </a:solidFill>
                <a:latin typeface="Garamond"/>
              </a:rPr>
              <a:t>What we Wonder about the moo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What is 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Garamond"/>
              </a:rPr>
              <a:t>it made of 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jkurczak</cp:lastModifiedBy>
  <dcterms:modified xsi:type="dcterms:W3CDTF">2009-03-16T16:33:21Z</dcterms:modified>
  <cp:revision>13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